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78571-BC38-40FD-8034-28806761F3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D8A49-332C-4D29-981E-A9983AD89B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10D28-2A1C-4F23-B179-3A84F159F5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C8828-C1D3-4D57-B74D-54821A4E12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91A21-0DB5-4BA4-9635-AD6365AAE7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80BB2-CED5-4FD1-8BDC-47931E8742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E2C1D-98A2-4759-9CBB-FEBC7C74E9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15968-69FF-41D3-8126-DBA2DA5092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31A7B-A728-4229-B737-A8E91E00DC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F240A-D6F3-435C-86AE-46736B7FD6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43D4E-35C1-43A5-8D96-84D8D4F851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1C754-7578-44CB-A5B8-CC4B3B1413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986A2-C184-4B57-996B-93D1327FAB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CFF5-C944-4E00-91AB-56BA4CE16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A6EF-0FC5-489B-BBDF-F516CC578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99C7-5C42-4002-9417-2BEB31AEB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CF40-6B3B-4320-97A3-7EBE576C2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2D8A-4BD0-46D8-9D9B-C22E1236D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F466-EE8A-4A84-8627-940A12827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042C-8EEE-481E-8975-FEEAF8523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CC84-2A5C-472B-8599-A680B10FB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CDF7-C954-4A40-920A-CD824DE9E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7CB2-ED1F-47C5-A45D-1C65F0176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504B-0B37-4845-864D-50E05AFB4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1C66-EB6D-4057-AF82-956E59BED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97BEE-71BD-4D70-A4DC-01EF8BFA66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7d3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5"/>
          <p:cNvSpPr/>
          <p:nvPr/>
        </p:nvSpPr>
        <p:spPr>
          <a:xfrm>
            <a:off x="3845520" y="798480"/>
            <a:ext cx="387504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11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1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1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1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5"/>
          <p:cNvSpPr/>
          <p:nvPr/>
        </p:nvSpPr>
        <p:spPr>
          <a:xfrm>
            <a:off x="3845520" y="798480"/>
            <a:ext cx="387504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Calibri Light"/>
              </a:rPr>
              <a:t>2</a:t>
            </a:r>
            <a:endParaRPr b="0" lang="en-US" sz="8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6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>
            <a:alpha val="7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8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8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8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8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6-28T05:54:43Z</dcterms:created>
  <dc:creator>Foxit</dc:creator>
  <dc:description/>
  <dc:language>en-US</dc:language>
  <cp:lastModifiedBy>Lan Yu</cp:lastModifiedBy>
  <dcterms:modified xsi:type="dcterms:W3CDTF">2020-06-28T07:03:03Z</dcterms:modified>
  <cp:revision>2</cp:revision>
  <dc:subject/>
  <dc:title>PowerPoint Presentation</dc:title>
</cp:coreProperties>
</file>